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F30-F701-42EC-84B1-AC6EF0C4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D7D-2D39-467A-9B0B-25DDF67C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4E2-518D-43CD-B5E1-D8548464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13F-B76B-490F-8CFB-A6A9D1A7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7836-4ABB-4DE2-802B-D8EFA8EA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8F630-165D-4BB2-ABD0-43C0F359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D1329-FD67-4726-9FEB-21336189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D2B5-682F-4C2A-AB4C-E55F0388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47F0C-0651-45BF-B580-C3F0512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4C4BA-157E-4A33-AFC6-A295E56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E8522-70A2-4070-B2C7-1C0A11D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79C-9670-47D7-872A-981CFFE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DF15-7433-414D-9551-7E4D33F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3F400-1A93-413E-8F79-A9E1354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8C28-B4D1-4582-9A26-D02E5E39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9CA81-88A2-4C29-A280-091115D4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44C3E-1981-42A6-BBBF-4217193A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E60-0875-4116-921D-3260D806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DC6-B709-45EA-A779-49287B6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75C-DFBB-4B40-8BD8-F165085C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D31-9C9B-4399-822D-904C8847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1DF-DE48-4E49-A892-CA6EFC5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A3E-CE39-478C-86A1-8B003DEC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683-5E79-49A3-B6BA-A2B09A9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379D-BAFF-4F81-8551-52A215EAF568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90C-4D96-490F-92FF-C011F1FA67FF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14600" y="30492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rtea cu ochi albast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952880"/>
            <a:ext cx="302904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tea isi are un miez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 de fraga.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 ochii din cap o 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zesc.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 mi-e draga. - Grigore Vieru</a:t>
            </a:r>
            <a:endParaRPr b="0" lang="en-US" sz="20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2819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TANIA CONSTANT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omponentele situatiei de comunic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Emitat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cept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Mesaj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d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anal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ntext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5335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copul lucrarii este de a arata important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tilor si de a transmite tutu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ptul 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vatatura nu are varsta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1065400">
            <a:off x="6771960" y="3897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rot="510000">
            <a:off x="1101240" y="3935520"/>
            <a:ext cx="2133720" cy="180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47920" y="4114800"/>
            <a:ext cx="6524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GULI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TIPARIRE A CARTILO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533520"/>
            <a:ext cx="78483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Titlul va fi scris cu litere majuscu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ingrosate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Imediat sub el vom trece numele autorului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 Black"/>
              </a:rPr>
              <a:t>Textul va incepe cu alineat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 Black"/>
              </a:rPr>
              <a:t>iar prima litera a lui va fi letrin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362320" y="533520"/>
            <a:ext cx="3219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le car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122868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2280" y="4343400"/>
            <a:ext cx="1738440" cy="291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981080" y="1905120"/>
            <a:ext cx="582480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antichitate se scria pe tabl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argila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i tarziu, se scria pe perga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ulat in jurul unui betiosor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a a aparut CARTE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imele carti erau sfinte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stirile fiind centre de cultu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086600" y="76320"/>
            <a:ext cx="174456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cazul textelor importante, sulul de pergament era protejat de un toc de piele-stramosul copertelor de astaz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Treptat, tot pentru a fi protejat textul, au aparut mai multe inovatii:coperta care era alcatuita din placute de lemn invelite in piele, in aur si in argint, numerotarea filelor, notarea titlului la incepu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evul mediul, pe langa obiect de cltura, cartea devenise si obiect de lux: filele aveau ornamante, majuscule erau impodobita migalos, coperta era confectionata din metale rare, fin cizelate, si era impodobita cu pietre pretioas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Rockwell"/>
              </a:rPr>
              <a:t>In secolul al XII-lea, apare in Europa un nou material ca suport pentru scriere:hartia; de fapt, hartia fusese inventata de chinezi cu aproximativ o mie de ani in urm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0400" y="152280"/>
            <a:ext cx="1905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Stiati c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 rot="21068400">
            <a:off x="609480" y="1600200"/>
            <a:ext cx="7620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RTEA A DEVENIT MIJLOC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INFORMARE ACCESIB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UTURO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600" y="457200"/>
            <a:ext cx="6134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PARTILE COMPONEN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ALE UNEI CAR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2438280"/>
            <a:ext cx="22096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Cupr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Er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No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Postf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Pref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 Black"/>
              </a:rPr>
              <a:t>Tabel biogtaf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 Black"/>
              </a:rPr>
              <a:t>Bibliograf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Retineti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Ori de cate ori are loc transmiterea unor informatii privind ganduri, idei, opinii, atitudini, evenimente, steri etc…, este vorba despre o SITUATIE DE COMUNIC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8:12:42Z</dcterms:created>
  <dc:creator>Tomita&amp;Silvia</dc:creator>
  <dc:description/>
  <dc:language>en-US</dc:language>
  <cp:lastModifiedBy>Tomita&amp;Silvia</cp:lastModifiedBy>
  <dcterms:modified xsi:type="dcterms:W3CDTF">2010-11-12T15:15:28Z</dcterms:modified>
  <cp:revision>12</cp:revision>
  <dc:subject/>
  <dc:title>Slide 1</dc:title>
</cp:coreProperties>
</file>